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995-EBC2-4507-B15A-70F45AAF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9E8-20D1-4BCE-9E90-4B787A18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E32-F1EB-43FD-9214-F043739B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A86-B0B1-4A95-A351-B0843E43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FB45-F8F2-45C7-B010-EB3350E0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E52F-9C96-4C98-BBAD-7B9CC1D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312F-58FF-4A15-B64D-E4DC5390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4D5B-3839-4730-AC19-2D8C09DA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0174-AB2F-444A-93D6-517CC9D9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6D1D-9D09-4D63-A26B-B62B0BD1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18D3-D5A4-4D33-870B-E15EBFA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1A9-E02F-46BA-A68F-6C465578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C326-3B2D-43B7-8900-FCE13E0D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9721-EB9F-4EA4-A073-E07EB8A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3D65-4862-4AD4-9BBF-D7E2FEC9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36F8-D8B4-484F-962A-E1AC9EA9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6572-A0B5-49A3-9EAF-7ED3BBE4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7BC-8B69-4A27-9ECC-F7F3C255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2D5-CA31-49C5-A034-B9A86D32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21D-C55B-4B34-AAC9-29E4771C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BC1-AC82-4FE5-83B5-D5765FC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9AB-578B-4F95-9EC1-D0A3B35E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C55-80AC-499F-99CE-CD880D9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3F7-77B7-43CB-8EC2-DDCCEF7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7FF7-0DE8-4179-A830-5A3F5F1964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6340-D49C-4CE7-BE56-6F9131A403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class Activity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in kilograms of this fr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72200" y="2819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486400"/>
            <a:ext cx="83818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 (Due 9/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pages 17-19, Answer questions 6 and 8 on page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7524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676520"/>
            <a:ext cx="746784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ular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c structure of </a:t>
            </a: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</a:rPr>
              <a:t>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971800"/>
            <a:ext cx="327636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units capable of carrying out all lif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3657600" cy="2066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0049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tenance of a constant internal state in a changing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86000" y="3819600"/>
            <a:ext cx="5457960" cy="3038400"/>
            <a:chOff x="2286000" y="3819600"/>
            <a:chExt cx="5457960" cy="3038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5410080" y="3990960"/>
              <a:ext cx="2333880" cy="28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2286000" y="3819600"/>
              <a:ext cx="1938240" cy="30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1752480" y="33526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humans maintain constant body tempera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523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organisms carry out chemical reactions to obtain en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160020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1752480"/>
            <a:ext cx="41148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all of chemical reactions carried out in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41148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organisms respond to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ving things can reprod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1752480"/>
            <a:ext cx="388620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by which organisms make more of their own kind from one generation to the 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895400" cy="2362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4495680"/>
            <a:ext cx="2543040" cy="200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19920" y="449568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re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traits change over gen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1981080"/>
            <a:ext cx="304812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sing of genetic traits from parents to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495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52680" y="451332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Properties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organisms grow and many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and evolution are different because development occurs in the lifetime of the developing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91320" y="4289400"/>
            <a:ext cx="27432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0:14:35Z</dcterms:created>
  <dc:creator>Dawn Pav</dc:creator>
  <dc:description/>
  <dc:language>en-US</dc:language>
  <cp:lastModifiedBy>Dawn Pav</cp:lastModifiedBy>
  <dcterms:modified xsi:type="dcterms:W3CDTF">2008-09-25T01:19:19Z</dcterms:modified>
  <cp:revision>3</cp:revision>
  <dc:subject/>
  <dc:title>Pre-class Activity 8</dc:title>
</cp:coreProperties>
</file>